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7C0F-E4CD-488E-A525-8001383D5D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EF4D-CAB2-4CCE-AD37-B57BC61336C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85B7-EE7E-43B9-B837-36E79002EB4A}"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ADA7-2030-4A4C-9A28-36DFBCC4D2B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9E81-6565-4614-87F5-36310C99CF1A}"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DC00-8556-4BAB-9485-237BF5FE765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B0FF-06D2-4DD9-ADB5-26B73B80A681}"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D4A6-2770-42F1-BC51-580E21ACB8E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84EB-7D08-4B6C-94AB-C185C6804D8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C808-9D05-4972-A9A7-9055A58E55D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12FE-2C4A-4FE1-94C6-3BA4FC00302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DCB7-893E-4B58-9A51-DC850244A31C}"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0385-6954-49BC-B144-A785BD6A27F5}"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4BB5-5C7F-41BB-BDAB-5441C0D36A0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333D-950D-462B-A51F-D2377C021A1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64AC-BE43-44C3-844B-DED720B9BA3D}"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B2EB-1997-411A-9BF4-B751667861E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2BC7-E22F-421F-B661-2A9AF9272B39}"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8DF0-9B4F-4F0A-A211-D20B51ABB9DE}"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D144-ECCB-43F3-A03C-A26C1F968372}"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171C-07B5-4C69-A9FE-0E8C16A217B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8D68-2E53-42DC-AF11-F5FB1C9240C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9726-0128-4439-B6AC-8D87B654B93D}"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2D01-6F55-4882-A53B-1C847FF5ED4D}"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E96F-0EB4-49AF-970F-128CB210C48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4AFC-0622-48F6-9F3A-8957CBF883E1}"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C023-D863-4540-A733-690A4D1B9A6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EDC6-D94F-4F21-BC12-E534C4B2BAC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12C1-E10D-4930-887A-FDC77ECBF2C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1015-DC1D-4442-BC69-B021CECC93D5}"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3715-4207-4AF6-A06D-FF51A2AF1B3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DFB3-A879-4DFF-8A0A-55974E2E5562}"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A8AA-E29B-4346-BE74-847EAEB3590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2C33-FF17-4729-96DD-81E0084A6C3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1AA0-3057-409A-92CD-4EE3B91A277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643C3-EF2F-4B13-A1F3-E1752CE53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E73CE-E50E-45DD-B661-A20F2924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EEFA9-4360-4C98-BB54-D6258F8D4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F9862-375E-4B2B-A445-A2F3EC3F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24F25-2275-4E1E-9068-2F65D143B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5DD06-747E-4A6F-9D85-FB44CCBA9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68DF-E0A5-4733-AE80-87F0B5FB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90FFF-1FB9-4E33-B956-65C6E1B76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6E503-12EC-4F7E-B231-BE853E9A5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31623-77AB-4C14-B0BC-DF178977F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9BA06-1A62-438D-A36B-7D42262E0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2C03-9DE9-4DF0-84F4-5ECC474F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E0A6-C568-4ECD-B252-F92AA19B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28908-21EA-4A82-ADFB-DA4F4F097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79996-9A51-4F19-BF00-EF069F71D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562D7-CC1E-428F-A716-B34911EB1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4C0F8-79C7-47BE-A8F3-FCF153DAA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30C2-749B-4061-B8E6-D0BA55336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CA23-B681-4A98-AC3C-F885429B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A3A6-893E-4E99-83C1-416A98AD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A72F-17AB-404B-B81B-DD77B052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BE23-EA9F-4ACB-9E39-732904CB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590E-FD35-498A-9950-E3132B0B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29F3-F94F-47AE-9255-D14374C24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1762-01F8-4382-B55D-CC27E6918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9E2B-97C3-46D2-913F-EB1B4D193BA7}"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dos.state.pa.us/corps/lib/corps/20/7/8913.pd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8559-16FB-4C2E-9DAD-88F9D885C8D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0"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aising Entrepreneurial Capital</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1"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pter 1:      Introduc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3CC7-440D-4310-9611-D07BA27A836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pening and closing</a:t>
            </a:r>
            <a:endParaRPr b="0" lang="en-US" sz="3800" spc="-1" strike="noStrike">
              <a:solidFill>
                <a:srgbClr val="080808"/>
              </a:solidFill>
              <a:latin typeface="Tahoma"/>
            </a:endParaRPr>
          </a:p>
        </p:txBody>
      </p:sp>
      <p:sp>
        <p:nvSpPr>
          <p:cNvPr id="11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2001, of the businesses with employees, about 574,500 (approximately 10%) were new an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bout 585,800 (approximately 10.2%) closed (Advocacy estimat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t all business closings are failures: </a:t>
            </a:r>
            <a:endParaRPr b="0" lang="en-US" sz="2800" spc="-1" strike="noStrike">
              <a:solidFill>
                <a:srgbClr val="080808"/>
              </a:solidFill>
              <a:latin typeface="Tahoma"/>
            </a:endParaRPr>
          </a:p>
          <a:p>
            <a:pPr lvl="1" marL="743040" indent="-28584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57.4% of businesses with employees and </a:t>
            </a:r>
            <a:endParaRPr b="0" lang="en-US" sz="2600" spc="-1" strike="noStrike">
              <a:solidFill>
                <a:srgbClr val="080808"/>
              </a:solidFill>
              <a:latin typeface="Tahoma"/>
            </a:endParaRPr>
          </a:p>
          <a:p>
            <a:pPr lvl="1" marL="743040" indent="-28584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38.2% of those without employees reported they were successful at closure.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FFE7-C84C-4104-A6DB-5C98C35CD27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urvival Rate</a:t>
            </a:r>
            <a:endParaRPr b="0" lang="en-US" sz="3800" spc="-1" strike="noStrike">
              <a:solidFill>
                <a:srgbClr val="080808"/>
              </a:solidFill>
              <a:latin typeface="Tahoma"/>
            </a:endParaRPr>
          </a:p>
        </p:txBody>
      </p:sp>
      <p:sp>
        <p:nvSpPr>
          <p:cNvPr id="1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wo-thirds of new firms survive at least two years</a:t>
            </a:r>
            <a:r>
              <a:rPr b="1" lang="en-US" sz="3200" spc="-1" strike="noStrike">
                <a:solidFill>
                  <a:srgbClr val="080808"/>
                </a:solidFill>
                <a:latin typeface="Tahoma"/>
              </a:rPr>
              <a:t>.</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49.6% are open at least four years,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39.5% are open after six years.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vocacy study, over 1989-1992)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88B5-E2EA-474E-AA44-BDBE1AEE6C4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rganizational Form</a:t>
            </a:r>
            <a:endParaRPr b="0" lang="en-US" sz="3800" spc="-1" strike="noStrike">
              <a:solidFill>
                <a:srgbClr val="080808"/>
              </a:solidFill>
              <a:latin typeface="Tahoma"/>
            </a:endParaRPr>
          </a:p>
        </p:txBody>
      </p:sp>
      <p:sp>
        <p:nvSpPr>
          <p:cNvPr id="12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oice of an organizational form will affect every aspect of your business including </a:t>
            </a:r>
            <a:endParaRPr b="0" lang="en-US" sz="32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axes,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ccess to capital,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growth opportunities,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legal liability, and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ransfer of ownership.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697B-97B3-4D61-B79E-CFB874BC6EC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ole proprietorship</a:t>
            </a:r>
            <a:endParaRPr b="0" lang="en-US" sz="3800" spc="-1" strike="noStrike">
              <a:solidFill>
                <a:srgbClr val="080808"/>
              </a:solidFill>
              <a:latin typeface="Tahoma"/>
            </a:endParaRPr>
          </a:p>
        </p:txBody>
      </p:sp>
      <p:sp>
        <p:nvSpPr>
          <p:cNvPr id="127"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implest and least expensive business entity to form. Your business is organized as a sole proprietorship by default. </a:t>
            </a:r>
            <a:endParaRPr b="0" lang="en-US" sz="2800" spc="-1" strike="noStrike">
              <a:solidFill>
                <a:srgbClr val="080808"/>
              </a:solidFill>
              <a:latin typeface="Tahoma"/>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e owner, and the owner and the business are the same legal and accounting entity.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requirement to keep company books, and the profits and losses of the business are taxed at the personal leve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6F48-8FF2-4E41-BD39-10539C143F1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General Partnership</a:t>
            </a:r>
            <a:endParaRPr b="0" lang="en-US" sz="3800" spc="-1" strike="noStrike">
              <a:solidFill>
                <a:srgbClr val="080808"/>
              </a:solidFill>
              <a:latin typeface="Tahoma"/>
            </a:endParaRPr>
          </a:p>
        </p:txBody>
      </p:sp>
      <p:sp>
        <p:nvSpPr>
          <p:cNvPr id="13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Similar to the sole proprietorship, but with two or more owners. </a:t>
            </a:r>
            <a:endParaRPr b="0" lang="en-US" sz="3000" spc="-1" strike="noStrike">
              <a:solidFill>
                <a:srgbClr val="080808"/>
              </a:solidFill>
              <a:latin typeface="Tahom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Unlike the proprietorship the general partnership is a separate legal entity, although not in a tax or liability sense. </a:t>
            </a:r>
            <a:endParaRPr b="0" lang="en-US" sz="30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rofits or losses flow through to the partners and are taxed at the individual partner level.</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219B-EBFC-4A5D-A6DB-FF96BCE333C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GP: Liability and Formation</a:t>
            </a:r>
            <a:endParaRPr b="0" lang="en-US" sz="38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ach partner is “jointly and severably liable” for the actions of all the partners, and company liabilities should those partners be unable to pay. </a:t>
            </a:r>
            <a:endParaRPr b="0" lang="en-US" sz="3000" spc="-1" strike="noStrike">
              <a:solidFill>
                <a:srgbClr val="080808"/>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ahoma"/>
              </a:rPr>
              <a:t> </a:t>
            </a:r>
            <a:endParaRPr b="0" lang="en-US" sz="9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artnerships can be based on an oral agreement between partners, but it is better to draw up a formal partnership agreement specifying the rights and responsibilities of the individuals involved.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79B5-006E-427B-99F8-90BC60DF881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Limited Partnership</a:t>
            </a:r>
            <a:endParaRPr b="0" lang="en-US" sz="3800" spc="-1" strike="noStrike">
              <a:solidFill>
                <a:srgbClr val="080808"/>
              </a:solidFill>
              <a:latin typeface="Tahoma"/>
            </a:endParaRPr>
          </a:p>
        </p:txBody>
      </p:sp>
      <p:sp>
        <p:nvSpPr>
          <p:cNvPr id="136"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d in special cases, primarily as a fund raising vehicle. Most common in real estate investment trusts, and venture capital investments.</a:t>
            </a:r>
            <a:r>
              <a:rPr b="0" lang="en-US" sz="2600" spc="-1" strike="noStrike">
                <a:solidFill>
                  <a:srgbClr val="080808"/>
                </a:solidFill>
                <a:latin typeface="Tahoma"/>
              </a:rPr>
              <a:t> </a:t>
            </a:r>
            <a:endParaRPr b="0" lang="en-US" sz="26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eneral partner provides management, and bears full legal liability for the actions of the partnership. Limited partners provide capital only.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partners are taxed at the personal level.</a:t>
            </a:r>
            <a:r>
              <a:rPr b="0" lang="en-US" sz="2600" spc="-1" strike="noStrike">
                <a:solidFill>
                  <a:srgbClr val="080808"/>
                </a:solidFill>
                <a:latin typeface="Tahoma"/>
              </a:rPr>
              <a:t>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2CC5-1687-4B88-9BB2-7BA6ABF058E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orporations</a:t>
            </a:r>
            <a:endParaRPr b="0" lang="en-US" sz="3800" spc="-1" strike="noStrike">
              <a:solidFill>
                <a:srgbClr val="080808"/>
              </a:solidFill>
              <a:latin typeface="Tahoma"/>
            </a:endParaRPr>
          </a:p>
        </p:txBody>
      </p:sp>
      <p:sp>
        <p:nvSpPr>
          <p:cNvPr id="1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gal entities, separate from their owner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ticles of incorporation must be filed with the state and rules for record keeping are established. </a:t>
            </a:r>
            <a:r>
              <a:rPr b="0" lang="en-US" sz="2000" spc="-1" strike="noStrike" u="sng">
                <a:solidFill>
                  <a:srgbClr val="3963af"/>
                </a:solidFill>
                <a:uFillTx/>
                <a:latin typeface="Tahoma"/>
                <a:hlinkClick r:id="rId1"/>
              </a:rPr>
              <a:t>PA Requirements</a:t>
            </a:r>
            <a:endParaRPr b="0" lang="en-US" sz="20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corporation is considered a more secure organizational form for prospective lenders/investors since its methods of operation are well defined by the tax cod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1281-A2BC-455D-A99D-7FD7A3424AF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orporation Liability</a:t>
            </a:r>
            <a:endParaRPr b="0" lang="en-US" sz="3800" spc="-1" strike="noStrike">
              <a:solidFill>
                <a:srgbClr val="080808"/>
              </a:solidFill>
              <a:latin typeface="Tahoma"/>
            </a:endParaRPr>
          </a:p>
        </p:txBody>
      </p:sp>
      <p:sp>
        <p:nvSpPr>
          <p:cNvPr id="14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Incorporation is perceived as limiting the owner's liability, which it does in the case of lawsuits … </a:t>
            </a:r>
            <a:endParaRPr b="0" lang="en-US" sz="3000" spc="-1" strike="noStrike">
              <a:solidFill>
                <a:srgbClr val="080808"/>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but personal guarantees are generally still required whenever financing is sought for a new business.</a:t>
            </a:r>
            <a:endParaRPr b="0" lang="en-US" sz="3000" spc="-1" strike="noStrike">
              <a:solidFill>
                <a:srgbClr val="080808"/>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Corporate by-laws</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DEAA-ADC5-467A-A5F0-8528F8FB8F1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porate by-laws</a:t>
            </a: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fficial Game Plan</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ghts of share holders, officers, and directo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ot filed in state offices usuall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brief or lengthy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y usually include the following…</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42C3-6492-4307-9B81-F5CB2CF081B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ypes of Small Businesses</a:t>
            </a:r>
            <a:r>
              <a:rPr b="0" lang="en-US" sz="4400" spc="-1" strike="noStrike">
                <a:solidFill>
                  <a:srgbClr val="080808"/>
                </a:solidFill>
                <a:latin typeface="Tahoma"/>
              </a:rPr>
              <a:t> </a:t>
            </a: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ivately held businesses can be:</a:t>
            </a:r>
            <a:endParaRPr b="0" lang="en-US" sz="3200" spc="-1" strike="noStrike">
              <a:solidFill>
                <a:srgbClr val="080808"/>
              </a:solidFill>
              <a:latin typeface="Tahoma"/>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ntrepreneurial ventures,</a:t>
            </a:r>
            <a:r>
              <a:rPr b="0" lang="en-US" sz="3200" spc="-1" strike="noStrike">
                <a:solidFill>
                  <a:srgbClr val="080808"/>
                </a:solidFill>
                <a:latin typeface="Tahoma"/>
              </a:rPr>
              <a:t> defined as new business start-ups with high growth aspirations, or</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fe style businesses,</a:t>
            </a:r>
            <a:r>
              <a:rPr b="0" lang="en-US" sz="3200" spc="-1" strike="noStrike">
                <a:solidFill>
                  <a:srgbClr val="080808"/>
                </a:solidFill>
                <a:latin typeface="Tahoma"/>
              </a:rPr>
              <a:t> generally operated to provide a “good living” or independen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D80C-7C4E-4EE7-9759-3765BD66F82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porate by-laws</a:t>
            </a: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time and place for meetings of officers, directors, and shareholder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many directors, their tenure, and their qualification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itle and compensation of the corporate officer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iscal year of the corporation;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o is responsible and how the bylaws are to be amended;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y rules on the approval of contracts, loans, checks, and stock certificate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spection of the corporate records book. </a:t>
            </a:r>
            <a:endParaRPr b="0" lang="en-US" sz="2800" spc="-1" strike="noStrike">
              <a:solidFill>
                <a:srgbClr val="080808"/>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0B41-CACE-4FF4-A598-4CC0C26DF76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Corporation</a:t>
            </a:r>
            <a:endParaRPr b="0" lang="en-US" sz="3800" spc="-1" strike="noStrike">
              <a:solidFill>
                <a:srgbClr val="080808"/>
              </a:solidFill>
              <a:latin typeface="Tahoma"/>
            </a:endParaRPr>
          </a:p>
        </p:txBody>
      </p:sp>
      <p:sp>
        <p:nvSpPr>
          <p:cNvPr id="15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mited liability of the corporate form, but a pass through entity for tax purposes – profits and losses are taxed at the personal rates of the owner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requently preferable as a start-up form, since the losses expected in the early stages of the business may be applied to the owner's personal tax retur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1391-F9CD-4DD4-A566-FE1BDE840B9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Corp limits in fund raising</a:t>
            </a:r>
            <a:endParaRPr b="0" lang="en-US" sz="3800" spc="-1" strike="noStrike">
              <a:solidFill>
                <a:srgbClr val="080808"/>
              </a:solidFill>
              <a:latin typeface="Tahoma"/>
            </a:endParaRPr>
          </a:p>
        </p:txBody>
      </p:sp>
      <p:sp>
        <p:nvSpPr>
          <p:cNvPr id="15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areholders in an S-Corporation. </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not exceed 75 in numb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be individuals and U.S. citize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e limited to one class of stock. </a:t>
            </a:r>
            <a:endParaRPr b="0" lang="en-US" sz="2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nture capitalists generally want preferred stock, leaving owners with common stock --- but the one class limitation eliminates S-Corp for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DDE5-29AA-4211-8C89-78A7AAFDA5E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Limited Liability Company</a:t>
            </a:r>
            <a:endParaRPr b="0" lang="en-US" sz="4400" spc="-1" strike="noStrike">
              <a:solidFill>
                <a:srgbClr val="080808"/>
              </a:solidFill>
              <a:latin typeface="Tahoma"/>
            </a:endParaRPr>
          </a:p>
        </p:txBody>
      </p:sp>
      <p:sp>
        <p:nvSpPr>
          <p:cNvPr id="157"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ot a corporation in the strictest sense, but it offers many of the same advantages as the S-Corporation. </a:t>
            </a:r>
            <a:endParaRPr b="0" lang="en-US" sz="3200" spc="-1" strike="noStrike">
              <a:solidFill>
                <a:srgbClr val="080808"/>
              </a:solidFill>
              <a:latin typeface="Tahoma"/>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35880" indent="-3358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major advantage for early stage ventures is that LLCs do not have the ownership restrictions of S-Corps, making them ideal business structures for foreign investors and institutional investo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9EAC-4D07-499F-BD0E-ECF21569430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 Corporation</a:t>
            </a:r>
            <a:endParaRPr b="0" lang="en-US" sz="3800" spc="-1" strike="noStrike">
              <a:solidFill>
                <a:srgbClr val="080808"/>
              </a:solidFill>
              <a:latin typeface="Tahoma"/>
            </a:endParaRPr>
          </a:p>
        </p:txBody>
      </p:sp>
      <p:sp>
        <p:nvSpPr>
          <p:cNvPr id="16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form, and most common corporate structur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high growth dictates a need for external capital or high levels of earnings retention it may be the only appropriate form.</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a legal entity owned by an unlimited number of stockholders who are personally shielded from debts or obligations related to the busines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6BF8-6EBA-40AB-B5A6-EA72CBF910F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tartup Capital</a:t>
            </a:r>
            <a:endParaRPr b="0" lang="en-US" sz="3800" spc="-1" strike="noStrike">
              <a:solidFill>
                <a:srgbClr val="080808"/>
              </a:solidFill>
              <a:latin typeface="Tahoma"/>
            </a:endParaRPr>
          </a:p>
        </p:txBody>
      </p:sp>
      <p:sp>
        <p:nvSpPr>
          <p:cNvPr id="163"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dequate capital is needed to start up a business, and to provide cash to cover the costs of doing busines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se costs can include equipment, inventory, accounts receivable, and working capital to allow for operating losses on the way to becoming profitable.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fficient capitalization can also provide for early expansion opportunities, and for acquiring cost-saving equip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A5EA-3587-4F05-BA98-3E8CE66A2BC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Forms of Financing</a:t>
            </a:r>
            <a:endParaRPr b="0" lang="en-US" sz="3800" spc="-1" strike="noStrike">
              <a:solidFill>
                <a:srgbClr val="080808"/>
              </a:solidFill>
              <a:latin typeface="Tahoma"/>
            </a:endParaRPr>
          </a:p>
        </p:txBody>
      </p:sp>
      <p:sp>
        <p:nvSpPr>
          <p:cNvPr id="16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Debt</a:t>
            </a:r>
            <a:r>
              <a:rPr b="0" lang="en-US" sz="2800" spc="-1" strike="noStrike">
                <a:solidFill>
                  <a:srgbClr val="080808"/>
                </a:solidFill>
                <a:latin typeface="Tahoma"/>
              </a:rPr>
              <a:t> is money that is borrowed and that must be repaid on some pre-determined schedule, with interest. </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Common Equity</a:t>
            </a:r>
            <a:r>
              <a:rPr b="0" lang="en-US" sz="2800" spc="-1" strike="noStrike">
                <a:solidFill>
                  <a:srgbClr val="080808"/>
                </a:solidFill>
                <a:latin typeface="Tahoma"/>
              </a:rPr>
              <a:t> represents the exchange of funding for partial ownership of the company. Such funds represent money invested in the firm without any requirement of repayment date or term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ABF0-E2D6-4078-AF95-8D8AA018E5C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a:t>
            </a:r>
            <a:r>
              <a:rPr b="1" lang="en-US" sz="3800" spc="-1" strike="noStrike">
                <a:solidFill>
                  <a:srgbClr val="080808"/>
                </a:solidFill>
                <a:latin typeface="Tahoma"/>
              </a:rPr>
              <a:t>Bootstrapping”</a:t>
            </a:r>
            <a:endParaRPr b="0" lang="en-US" sz="3800" spc="-1" strike="noStrike">
              <a:solidFill>
                <a:srgbClr val="080808"/>
              </a:solidFill>
              <a:latin typeface="Tahoma"/>
            </a:endParaRPr>
          </a:p>
        </p:txBody>
      </p:sp>
      <p:sp>
        <p:nvSpPr>
          <p:cNvPr id="16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rt of doing more with l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if, we cannot generate all of the needed capital, we can sharply reduce the external financing requirement, resulting in less interest expense, lower repayment obligations, and less sacrifice of contro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shortage of capital can be a good thing if it forces the business to be efficient and creativ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6BC1-2396-40A8-BD55-E962AB67565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First to turn to for capital is …</a:t>
            </a:r>
            <a:endParaRPr b="0" lang="en-US" sz="38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rself!</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fore approaching others, the entrepreneur should exhaust his or her personal sources of capita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ersonal sources include savings, a second mortgage, borrowing against stocks or retirement funds, personal lines of credit and personal credit card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B8F-16B1-4706-B3DA-7DDE529D615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Next, after personal funds …</a:t>
            </a:r>
            <a:endParaRPr b="0" lang="en-US" sz="3800" spc="-1" strike="noStrike">
              <a:solidFill>
                <a:srgbClr val="080808"/>
              </a:solidFill>
              <a:latin typeface="Tahoma"/>
            </a:endParaRPr>
          </a:p>
        </p:txBody>
      </p:sp>
      <p:sp>
        <p:nvSpPr>
          <p:cNvPr id="17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riends and family</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eat these funds on a business basis by putting the agreement in writing.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ovide relatives and friends with the hard facts about your business venture, emphasizing the risk involv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pell out the terms and conditions of the investment – repayment time frame for a loan or number of shares granted for an equity invest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7BB2-083D-466C-882A-1D399187BB9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ur Focus: High-Growth Ventures</a:t>
            </a:r>
            <a:endParaRPr b="0" lang="en-US" sz="3800" spc="-1" strike="noStrike">
              <a:solidFill>
                <a:srgbClr val="080808"/>
              </a:solidFill>
              <a:latin typeface="Tahoma"/>
            </a:endParaRPr>
          </a:p>
        </p:txBody>
      </p:sp>
      <p:sp>
        <p:nvSpPr>
          <p:cNvPr id="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ypically, the entrepreneur i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ssionate about an idea or produc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lling to bear substantial risk to see the vision brought to market,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lling to work very long hours to see the vision through.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2E41-6913-42FD-B3B8-865F0D9CFBE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hen, Customers and Suppliers</a:t>
            </a:r>
            <a:endParaRPr b="0" lang="en-US" sz="38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ok up and down your supply chain for potential investors. </a:t>
            </a:r>
            <a:endParaRPr b="0" lang="en-US" sz="3200" spc="-1" strike="noStrike">
              <a:solidFill>
                <a:srgbClr val="080808"/>
              </a:solidFill>
              <a:latin typeface="Tahoma"/>
            </a:endParaRPr>
          </a:p>
          <a:p>
            <a:pPr marL="5716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Use credit terms to advantage.</a:t>
            </a:r>
            <a:endParaRPr b="0" lang="en-US" sz="32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vince customers and suppliers that their sales will be increased or their costs decreased by doing business with you --- make them stakehold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69EA-42F7-4A65-863B-068243F89E4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Lease Assets</a:t>
            </a:r>
            <a:endParaRPr b="0" lang="en-US" sz="38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 is not necessary to own assets merely to have access to them.</a:t>
            </a:r>
            <a:endParaRPr b="0" lang="en-US" sz="3200" spc="-1" strike="noStrike">
              <a:solidFill>
                <a:srgbClr val="080808"/>
              </a:solidFill>
              <a:latin typeface="Tahoma"/>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Tahoma"/>
              </a:rPr>
              <a:t> </a:t>
            </a: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se everything possible – office space, equipment, and vehicles. </a:t>
            </a:r>
            <a:endParaRPr b="0" lang="en-US" sz="32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conserves scarce capital while giving important access to, and control of, productive capacity.</a:t>
            </a:r>
            <a:r>
              <a:rPr b="0" lang="en-US" sz="2600" spc="-1" strike="noStrike">
                <a:solidFill>
                  <a:srgbClr val="080808"/>
                </a:solidFill>
                <a:latin typeface="Tahoma"/>
              </a:rPr>
              <a:t>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55F9-884C-4B48-8460-5A3653E5DA5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Bootstrap Strategies</a:t>
            </a:r>
            <a:endParaRPr b="0" lang="en-US" sz="38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enerate sales quickly.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enerate cash flow quickl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ll high valued products/ servic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ate the best team you can afford.</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trol your growth.</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nage your accounts receivabl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D7B0-258C-4EEE-AA06-8D3B65C06D3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ussion Questions</a:t>
            </a:r>
            <a:endParaRPr b="0" lang="en-US" sz="4400" spc="-1" strike="noStrike">
              <a:solidFill>
                <a:srgbClr val="080808"/>
              </a:solidFill>
              <a:latin typeface="Tahoma"/>
            </a:endParaRPr>
          </a:p>
        </p:txBody>
      </p:sp>
      <p:sp>
        <p:nvSpPr>
          <p:cNvPr id="187" name="PlaceHolder 2"/>
          <p:cNvSpPr>
            <a:spLocks noGrp="1"/>
          </p:cNvSpPr>
          <p:nvPr>
            <p:ph/>
          </p:nvPr>
        </p:nvSpPr>
        <p:spPr>
          <a:xfrm>
            <a:off x="1219320" y="1593720"/>
            <a:ext cx="76867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can the organization form selected affect strategic options for a company down the road?</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differences between an entrepreneur and the founder of a life-style business? Which are you?</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y is a firm started with $10,000 as likely to succeed as one that starts with $100,000?</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7" dur="500"/>
                                        <p:tgtEl>
                                          <p:spTgt spid="1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12" dur="500"/>
                                        <p:tgtEl>
                                          <p:spTgt spid="1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17"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DB5A-1C92-45F5-867A-5B06833966E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ussion Questions</a:t>
            </a:r>
            <a:endParaRPr b="0" lang="en-US" sz="4400" spc="-1" strike="noStrike">
              <a:solidFill>
                <a:srgbClr val="080808"/>
              </a:solidFill>
              <a:latin typeface="Tahoma"/>
            </a:endParaRPr>
          </a:p>
        </p:txBody>
      </p:sp>
      <p:sp>
        <p:nvSpPr>
          <p:cNvPr id="190" name="PlaceHolder 2"/>
          <p:cNvSpPr>
            <a:spLocks noGrp="1"/>
          </p:cNvSpPr>
          <p:nvPr>
            <p:ph/>
          </p:nvPr>
        </p:nvSpPr>
        <p:spPr>
          <a:xfrm>
            <a:off x="1219320" y="1593720"/>
            <a:ext cx="76867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pros and cons of accepting money from other than yourself at start-up?</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miting growth may limit reliance on outside sources. Are there potential costs associated with slow growth?</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major reasons for small business failure? How can we avoid the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4" dur="500"/>
                                        <p:tgtEl>
                                          <p:spTgt spid="19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9" dur="500"/>
                                        <p:tgtEl>
                                          <p:spTgt spid="1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34"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0068-0540-4EC3-86F3-5644C35F54C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Entrepreneurship …</a:t>
            </a:r>
            <a:endParaRPr b="0" lang="en-US" sz="3800" spc="-1" strike="noStrike">
              <a:solidFill>
                <a:srgbClr val="080808"/>
              </a:solidFill>
              <a:latin typeface="Tahoma"/>
            </a:endParaRPr>
          </a:p>
        </p:txBody>
      </p:sp>
      <p:sp>
        <p:nvSpPr>
          <p:cNvPr id="1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ntrepreneurship is the pursuit of opportunity without regard to resources currently controlled. </a:t>
            </a:r>
            <a:endParaRPr b="0" lang="en-US" sz="3000" spc="-1" strike="noStrike">
              <a:solidFill>
                <a:srgbClr val="080808"/>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 idea is key and the entrepreneur must figure how to bring that idea to fruition. </a:t>
            </a:r>
            <a:endParaRPr b="0" lang="en-US" sz="3000" spc="-1" strike="noStrike">
              <a:solidFill>
                <a:srgbClr val="080808"/>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Once the start up reaches steady state, the thrill is gone for many entrepreneurs and the next start up beckons them to a fresh challenge.</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FC28-3BBA-40D5-A89A-C9C7679D5B3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mall Business …</a:t>
            </a:r>
            <a:endParaRPr b="0" lang="en-US" sz="3800" spc="-1" strike="noStrike">
              <a:solidFill>
                <a:srgbClr val="080808"/>
              </a:solidFill>
              <a:latin typeface="Tahoma"/>
            </a:endParaRPr>
          </a:p>
        </p:txBody>
      </p:sp>
      <p:sp>
        <p:nvSpPr>
          <p:cNvPr id="1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BA’s Office of Advocacy uses the small business definition of fewer than 500 employees and provides information for firms of various sizes.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r technical purposes such as government contracting, the definition varies by number of employees and by gross revenu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B689-6067-4BDB-87B1-359FEE24166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Importance of Small Businesses</a:t>
            </a:r>
            <a:endParaRPr b="0" lang="en-US" sz="3800" spc="-1" strike="noStrike">
              <a:solidFill>
                <a:srgbClr val="080808"/>
              </a:solidFill>
              <a:latin typeface="Tahoma"/>
            </a:endParaRPr>
          </a:p>
        </p:txBody>
      </p:sp>
      <p:sp>
        <p:nvSpPr>
          <p:cNvPr id="1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represent more than 99% of all employers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mploy 51% of private-sector workers, and 38% of workers in high-tech jobs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represent nearly all self-employed, which are 7.0% of the work force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roduce 51% of private-sector output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CD9A-0F5B-4D2A-8FA6-20A01FE56B6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haracteristics</a:t>
            </a:r>
            <a:endParaRPr b="0" lang="en-US" sz="3800" spc="-1" strike="noStrike">
              <a:solidFill>
                <a:srgbClr val="080808"/>
              </a:solidFill>
              <a:latin typeface="Tahoma"/>
            </a:endParaRPr>
          </a:p>
        </p:txBody>
      </p:sp>
      <p:sp>
        <p:nvSpPr>
          <p:cNvPr id="109"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re are about 22.4 million small businesses in the U.S. today. 53% are home-based and 3% are franchises </a:t>
            </a:r>
            <a:endParaRPr b="0" lang="en-US" sz="3000" spc="-1" strike="noStrike">
              <a:solidFill>
                <a:srgbClr val="080808"/>
              </a:solidFill>
              <a:latin typeface="Tahoma"/>
            </a:endParaRPr>
          </a:p>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Women are estimated to be full or part owners of 9 million businesses and the primary owners in 5.4 million of these </a:t>
            </a:r>
            <a:endParaRPr b="0" lang="en-US" sz="3000" spc="-1" strike="noStrike">
              <a:solidFill>
                <a:srgbClr val="080808"/>
              </a:solidFill>
              <a:latin typeface="Tahoma"/>
            </a:endParaRPr>
          </a:p>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In 1997 there were about 1.2 million Hispanic-owned firms, and 820,000 African-American-owned firms.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14CE-59A2-4520-9D08-74BD9927DFF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ypical American Small Business</a:t>
            </a:r>
            <a:endParaRPr b="0" lang="en-US" sz="3800" spc="-1" strike="noStrike">
              <a:solidFill>
                <a:srgbClr val="080808"/>
              </a:solidFill>
              <a:latin typeface="Tahoma"/>
            </a:endParaRPr>
          </a:p>
        </p:txBody>
      </p:sp>
      <p:sp>
        <p:nvSpPr>
          <p:cNvPr id="11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as three employe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nual revenue - $150,000-200,000</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wned by a white male (53.4%)</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perates at 1.3 location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owner works 50.4 hours per week</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C314-4B9B-4718-AE7D-326B459C655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haracteristics of HBBs</a:t>
            </a:r>
            <a:endParaRPr b="0" lang="en-US" sz="3800" spc="-1" strike="noStrike">
              <a:solidFill>
                <a:srgbClr val="080808"/>
              </a:solidFill>
              <a:latin typeface="Tahoma"/>
            </a:endParaRPr>
          </a:p>
        </p:txBody>
      </p:sp>
      <p:sp>
        <p:nvSpPr>
          <p:cNvPr id="115"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Home-based businesses represent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52 percent of all firms, 10% of total receipts.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bout 19 percent of home based firms have employees.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 average receipts of all home-based firms was in the $40,000 range,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bout 44% required less than $5,000 for startup. Another 25 percent or so needed $5,000 to $25,000.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20:05:41Z</dcterms:created>
  <dc:creator>John B. Vinturella</dc:creator>
  <dc:description/>
  <dc:language>en-US</dc:language>
  <cp:lastModifiedBy>User</cp:lastModifiedBy>
  <dcterms:modified xsi:type="dcterms:W3CDTF">2009-01-20T19:42:37Z</dcterms:modified>
  <cp:revision>12</cp:revision>
  <dc:subject/>
  <dc:title>Raising Entrepreneurial Capital </dc:title>
</cp:coreProperties>
</file>